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071-FBA6-44F3-87C3-766B11FA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5A2-6F23-4C06-B7DC-DB9DF01C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37D-03F7-4D1C-9480-E11448B8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7A0-E3A6-4076-BBD9-C9EEE661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25D-FF5F-4F32-BACA-3B5488E5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D79-EA33-44CB-9A5D-19EBCEA7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2CF-B4C4-4713-A14A-FFC2DF46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C2D-D9D0-44EE-89F9-18296E5C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C54-72B8-475A-BD72-DC0DA49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954-A3AD-4C16-A0E9-5F1901DD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763-005D-4916-BAE4-3400B00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B97-93F8-4ABB-8BE0-E41DC7F0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FD70-9EE5-4DF7-8455-AB681C7CB7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0920" y="260280"/>
            <a:ext cx="597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Ministério das Cidades                                                                                         Secretaria Nacional de Saneamento Ambie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Legislação de interesse dos Serviços  Públicos de Saneamento Básico </a:t>
            </a:r>
            <a:br>
              <a:rPr sz="1600"/>
            </a:br>
            <a:br>
              <a:rPr sz="1600"/>
            </a:b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Eng. Marcos Helano Fernandes Montenegro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rasília, DF, Fevereiro de 2007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0720"/>
            <a:ext cx="853452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de consórcio público (prestador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sórcio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ontrato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  contrato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ontrat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de programa  A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de programa B   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programa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unicípio 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Estad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744200">
            <a:off x="1979640" y="41079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4324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292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3213000"/>
            <a:ext cx="2244600" cy="2664000"/>
          </a:xfrm>
          <a:custGeom>
            <a:avLst/>
            <a:gdLst/>
            <a:ahLst/>
            <a:rect l="l" t="t" r="r" b="b"/>
            <a:pathLst>
              <a:path w="1414" h="1678">
                <a:moveTo>
                  <a:pt x="1414" y="0"/>
                </a:moveTo>
                <a:cubicBezTo>
                  <a:pt x="851" y="389"/>
                  <a:pt x="288" y="778"/>
                  <a:pt x="144" y="1043"/>
                </a:cubicBezTo>
                <a:cubicBezTo>
                  <a:pt x="0" y="1308"/>
                  <a:pt x="477" y="1496"/>
                  <a:pt x="552" y="1587"/>
                </a:cubicBezTo>
                <a:cubicBezTo>
                  <a:pt x="627" y="1678"/>
                  <a:pt x="590" y="1587"/>
                  <a:pt x="597" y="15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573360"/>
            <a:ext cx="1079280" cy="2303640"/>
          </a:xfrm>
          <a:custGeom>
            <a:avLst/>
            <a:gdLst/>
            <a:ahLst/>
            <a:rect l="l" t="t" r="r" b="b"/>
            <a:pathLst>
              <a:path w="680" h="1451">
                <a:moveTo>
                  <a:pt x="680" y="0"/>
                </a:moveTo>
                <a:cubicBezTo>
                  <a:pt x="385" y="468"/>
                  <a:pt x="90" y="937"/>
                  <a:pt x="45" y="1179"/>
                </a:cubicBezTo>
                <a:cubicBezTo>
                  <a:pt x="0" y="1421"/>
                  <a:pt x="204" y="1436"/>
                  <a:pt x="408" y="1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8604200">
            <a:off x="4458600" y="3770640"/>
            <a:ext cx="1298520" cy="2138400"/>
          </a:xfrm>
          <a:custGeom>
            <a:avLst/>
            <a:gdLst/>
            <a:ahLst/>
            <a:rect l="l" t="t" r="r" b="b"/>
            <a:pathLst>
              <a:path w="680" h="1451">
                <a:moveTo>
                  <a:pt x="680" y="0"/>
                </a:moveTo>
                <a:cubicBezTo>
                  <a:pt x="385" y="468"/>
                  <a:pt x="90" y="937"/>
                  <a:pt x="45" y="1179"/>
                </a:cubicBezTo>
                <a:cubicBezTo>
                  <a:pt x="0" y="1421"/>
                  <a:pt x="204" y="1436"/>
                  <a:pt x="408" y="1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809600">
            <a:off x="6732720" y="4252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34136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LEI Nº 11.445, DE 5 DE JANEIRO D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Art. 1º - Esta Lei estabelece as diretrizes nacionais para o saneamento básico e para a política federal de saneamento bás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981000"/>
            <a:ext cx="810576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4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Lei Nº 11.445, de 5 de janeiro de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1 - Dos princípios fundam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2 - Do exercício da titul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3 - Da prestação regionalizada de serviços públicos de saneament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4 - Do planej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5 - Da reg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6 - Dos aspectos econômicos e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7 - Dos aspec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8 - Da participação de órgãos colegiados no control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9 - Da política federal de saneament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10 - Disposições f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1125360"/>
            <a:ext cx="86104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estação direta ou indireta de serviç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estação direta ou indireta de serviços públicos está prevista no art. 175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175. Incumbe ao Poder Público, na forma da lei, diretamente ou sob regime de concessão ou permissão, sempre através de licitação, a prestação de serviç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ágrafo único. A lei disporá sob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- o regime das empresas concessionárias e permissionárias de serviços públicos, o caráter especial de seu contrato e de sua prorrogação, bem como as condições de caducidade, fiscalização e rescisão da concessão ou permiss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- os direitos dos usuár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 - política tarifár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 - a obrigação de manter serviço adequ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413000"/>
            <a:ext cx="86104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Gestão associada de serviç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stão associada de serviços públicos está prevista no art. 241 da       Constituição Federal (Emenda Constitucional nº. 19, de 1998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41.  A União, os Estados, o Distrito Federal e os Municípios disciplinarão por meio d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consórcios público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o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convênios de cooperaçã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r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entes federad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utorizando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estão associada de serviços públic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bem como a transferência total ou parcial de encargos, serviços, pessoal e bens essenciais à continuidade dos serviços transfe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125360"/>
            <a:ext cx="861048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355680" indent="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00"/>
                </a:solidFill>
                <a:latin typeface="Arial"/>
              </a:rPr>
              <a:t>Competência para prestação de serviços públicos loc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etência municipal está prevista no art. 30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46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30. Compete aos Municíp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 - organizar e prestar, diretamente ou sob regime de concessão ou permissão, os serviços públicos de interesse local, incluído o de transporte coletivo, que tem caráter essenci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125360"/>
            <a:ext cx="8610480" cy="44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0720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00"/>
                </a:solidFill>
                <a:latin typeface="Arial"/>
              </a:rPr>
              <a:t>Competência para regionalização de serviços públicos loc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etência dos estados está prevista no art. 25 da Constituição Fed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t. 25  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>
              <a:lnSpc>
                <a:spcPct val="115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§ 3º - Os Estados poderão, mediante lei complementar, instituir regiões metropolitanas, aglomerações urbanas e microrregiões, constituídas por agrupamentos de municípios limítrofes, para integrar a organização, o planejamento e a execução de funções públicas de interesse com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1341360"/>
            <a:ext cx="86104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Lei Nº 11.107, de 6 de Abril de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Dispõe sobre normas gerais para a União, os Estados, o Distrito Federal e os Municípios contratarem consórcios públicos para a realização de objetivos de interesse comum e dá outras providê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0000"/>
                </a:solidFill>
                <a:latin typeface="Times New Roman"/>
              </a:rPr>
              <a:t>Decreto Nº 6.017, de 17 de Janeiro de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Estabelece normas para a execução da Lei Nº 11.107, de 6 de Abril de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168560"/>
            <a:ext cx="861048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ret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utarqu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scentralizad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(outorga)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presa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oc. econ.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und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estação de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Serviço Público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ndiret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icitaçã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trato de concess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delegação)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consórcio público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contrat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Gestão associada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800" spc="-1" strike="noStrike">
                <a:solidFill>
                  <a:srgbClr val="0000ff"/>
                </a:solidFill>
                <a:latin typeface="Times New Roman"/>
              </a:rPr>
              <a:t>convênio de cooperação</a:t>
            </a:r>
            <a:r>
              <a:rPr b="1" lang="pt-BR" sz="1800" spc="-1" strike="noStrike">
                <a:solidFill>
                  <a:srgbClr val="0000ff"/>
                </a:solidFill>
                <a:latin typeface="Times New Roman"/>
              </a:rPr>
              <a:t>        programa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1484280"/>
            <a:ext cx="152280" cy="5027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7760"/>
              <a:gd name="textAreaBottom" fmla="*/ 4896720 h 502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1700280"/>
            <a:ext cx="152280" cy="1644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2840 h 1644480"/>
              <a:gd name="textAreaBottom" fmla="*/ 1601640 h 16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2514600"/>
            <a:ext cx="228600" cy="1189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962520"/>
            <a:ext cx="304560" cy="86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22320 h 866520"/>
              <a:gd name="textAreaBottom" fmla="*/ 8442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7"/>
                </a:lnTo>
                <a:cubicBezTo>
                  <a:pt x="10800" y="9917"/>
                  <a:pt x="5400" y="10817"/>
                  <a:pt x="0" y="10817"/>
                </a:cubicBezTo>
                <a:cubicBezTo>
                  <a:pt x="5400" y="10817"/>
                  <a:pt x="10800" y="11717"/>
                  <a:pt x="10800" y="126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3341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533412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028480" y="3962520"/>
            <a:ext cx="307800" cy="838080"/>
          </a:xfrm>
          <a:custGeom>
            <a:avLst/>
            <a:gdLst>
              <a:gd name="textAreaLeft" fmla="*/ 196200 w 307800"/>
              <a:gd name="textAreaRight" fmla="*/ 307800 w 307800"/>
              <a:gd name="textAreaTop" fmla="*/ 24840 h 838080"/>
              <a:gd name="textAreaBottom" fmla="*/ 8132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4"/>
                  <a:pt x="10800" y="2047"/>
                </a:cubicBezTo>
                <a:lnTo>
                  <a:pt x="10800" y="8753"/>
                </a:lnTo>
                <a:cubicBezTo>
                  <a:pt x="10800" y="9777"/>
                  <a:pt x="5400" y="10800"/>
                  <a:pt x="0" y="10800"/>
                </a:cubicBezTo>
                <a:cubicBezTo>
                  <a:pt x="5400" y="10800"/>
                  <a:pt x="10800" y="11824"/>
                  <a:pt x="10800" y="12847"/>
                </a:cubicBezTo>
                <a:lnTo>
                  <a:pt x="10800" y="19553"/>
                </a:lnTo>
                <a:cubicBezTo>
                  <a:pt x="10800" y="2057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144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odalidades de prestação  de serviço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53452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individual da CESB ou de autarquia estadual por cada município para os serviços de 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vênio de coop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stado ----------------------------------------------------- Municí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anhia estadual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------------------------------  Contrat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arquia 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4353000">
            <a:off x="2369520" y="3164040"/>
            <a:ext cx="485640" cy="958680"/>
          </a:xfrm>
          <a:prstGeom prst="upArrow">
            <a:avLst>
              <a:gd name="adj1" fmla="val 44444"/>
              <a:gd name="adj2" fmla="val 46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17247000">
            <a:off x="6363000" y="3240000"/>
            <a:ext cx="486000" cy="958680"/>
          </a:xfrm>
          <a:prstGeom prst="upArrow">
            <a:avLst>
              <a:gd name="adj1" fmla="val 44444"/>
              <a:gd name="adj2" fmla="val 468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90720"/>
            <a:ext cx="8915400" cy="54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i 11.107 - Gestão associada – Model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tratação coletiva da CESB ou de autarquia estadu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onsórcio públic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nsórcio Público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----------- contrato de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anhia estadua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u Autarquia est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nicípio 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unicípio B    Município C    Estado 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02600">
            <a:off x="2050920" y="4495680"/>
            <a:ext cx="486000" cy="976320"/>
          </a:xfrm>
          <a:prstGeom prst="upArrow">
            <a:avLst>
              <a:gd name="adj1" fmla="val 44444"/>
              <a:gd name="adj2" fmla="val 476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5720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112000">
            <a:off x="5866920" y="4571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72160" y="4648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23:54Z</dcterms:created>
  <dc:creator>none</dc:creator>
  <dc:description/>
  <dc:language>en-US</dc:language>
  <cp:lastModifiedBy>Aureliano</cp:lastModifiedBy>
  <dcterms:modified xsi:type="dcterms:W3CDTF">2007-02-14T11:43:10Z</dcterms:modified>
  <cp:revision>22</cp:revision>
  <dc:subject/>
  <dc:title>   A Gestão Associada nos Serviços  Públicos de Saneamento Básico   Eng. Marcos Helano Fernandes Montenegro   Seminário Regionalização e Gestão Associada de Serviços Públicos de Saneamento Básico Brasília, 07 de novembro de 2006.</dc:title>
</cp:coreProperties>
</file>